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2A74-A615-41B7-85C1-E96A038A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9D67-5E3A-4AC2-8517-14A1D900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99E-987C-485F-8B1D-1EB9332A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3B1-1CB8-4DD9-91EF-C266C9CA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35BE-A146-4EC5-B79D-754BF29B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3BAF-B914-45D7-B9AC-88C9A617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9055-7C2A-424B-B50F-F47CE1F6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A838-5BE3-4457-992B-7CE71700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61AB-9DB5-4C3E-90E8-942157FD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3443-4408-4E8F-B2EE-156F5DD8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13B5-DD97-465B-904F-052C0F3C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28A-9425-44B4-BDE3-EAD5B595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59C5-2439-4724-833D-A33703F9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6B95-3715-4D5D-BB6F-007621F3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6534-6F49-4CF8-98AB-936296F5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5D18-CF69-4AC7-9BF3-DC76B0CD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0B71-EF83-4E91-9484-A1817593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9F9E9-C89A-4279-B4A5-54DF97BC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BF26A-B158-4D82-81BF-99AF3150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A7B69-E10C-4C8C-9A7A-E82253A8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C8BEC-1157-47CD-AB22-C864E0DF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96D68-C08B-4478-96C6-7D1854BB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BEE4-B1B1-454C-8387-046E83C5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D5E37-DDFB-4401-A12D-65F1C18C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71C67-0B38-4AAA-9C62-B59BA949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3B83A-B014-4447-8FCA-0A1AD87B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174C1-79F9-4D99-A146-87819315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16FF6-64BA-4B7E-AE85-FDEE588A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5C694-883D-46E1-AC74-D433F0B4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0440C-4BE2-4B17-B9CD-8FCEDD9D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62A74-54BD-482F-BFE7-6EE1E4F1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CC94E-561B-485C-AB89-6AE3C737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2F19F-AB20-4BBD-ACCC-BCF6CDE7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DEB5-95F5-4BBE-BB3E-BA5E4E02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CF847-EA61-4F06-BF8B-2394966E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1321F-0422-4794-9D77-D8274F23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E57A3-057E-4713-A592-FE842C3E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BF30C-E59C-45D5-A0D3-17281F2F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E454A-BAAB-4CDF-A166-5E8167A0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FBCD5-4B45-4207-9BB7-23936E2B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727D5-13F6-40C7-9F29-54D41105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9382A-298C-46B4-8F7D-592472E9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68FD4-2B1A-4FD5-AE19-6B6DBFD8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A32FC-0357-463A-A80F-74BA7E34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7BF-3169-4164-AAAD-DB52EFAA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F676A4-BB68-4F46-8CE5-4CC822D9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0529DC-0649-4336-9BC3-63AEEBA6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A4EF6A-D007-458B-82C6-8E61C3E4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6DE51E-2E50-42EF-A1C3-294B82A9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A41354-A008-4380-9DDB-322060DB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E2D96B-5483-48D7-BB43-3B6EDE20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06325D-CBEC-41C2-9FC1-FAF72753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149E18-A0BB-4E16-AEDF-3CC5FC9C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1634F7-D81B-47F7-8911-C3D618FE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7D2F5-90AE-4313-9D31-13904A51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28E-FE3D-4404-8E26-0C0C6E11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3AF107-0607-4F88-A414-4E650EE2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0A019-DD24-4D28-B4F5-EC155D82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A4B41-06B5-4AB9-BD64-4A78E4C9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90F79-75A8-4C3F-9BE2-8CAD1E87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FA0DF-8747-4426-8E0B-5471707E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BE8EB-9DC9-447B-B7EF-8BB249FD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68FAB-DB48-4A05-A821-38DF2C40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3FECD-DC35-4DC0-887A-725949D7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25A32-E8C7-4D41-ABDF-DF280905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4A07A-9785-4BF9-8FCB-075B1455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E824-762D-4B33-B89E-14352254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CEEB1-DFD7-4C06-AA63-F88B8D5F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85248-A68A-43E0-AB29-7F59D513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9FDB4-4E0B-42C7-8E39-A1EF86BF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A885-719C-4642-AF73-E33C33A7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E7CA-F119-4CD6-8383-2A5357A9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703D-9D7C-4C76-B40A-9BC1B22B1FC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D351-2865-4C4A-B136-EB6EA9CAFE7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5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1225-4725-4262-A7D7-C568B581EA5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BF82-C59F-4813-81B9-48DEAE3D2EB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3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1ED0-0DFA-46B9-91B2-24CFF98028B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612F-425F-4CC9-BE65-9EFE0D6E549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Russian culture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By: Brianne D. and Daniel J. 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1% speak Russian in Rus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% speak tartar in Rus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thers are spoken less than 1% in Rus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447920" y="3962520"/>
            <a:ext cx="912600" cy="9111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2362320" y="3962520"/>
            <a:ext cx="909360" cy="9093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3276720" y="3962520"/>
            <a:ext cx="912600" cy="91116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4191120" y="3962520"/>
            <a:ext cx="912600" cy="91116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5"/>
          <a:stretch/>
        </p:blipFill>
        <p:spPr>
          <a:xfrm>
            <a:off x="5105520" y="3962520"/>
            <a:ext cx="912600" cy="90936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6"/>
          <a:stretch/>
        </p:blipFill>
        <p:spPr>
          <a:xfrm>
            <a:off x="6019920" y="3962520"/>
            <a:ext cx="90792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ahoma"/>
              </a:rPr>
              <a:t>Daily life in Russi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family members are depended 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onal holidays are celeb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years eve is very fes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cer is liked in Rus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amilies only have 1 child because of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ily get-togethers are enjoy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years eve is celebrated like Christ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243828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6934320" y="4876920"/>
            <a:ext cx="1938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02:03Z</dcterms:created>
  <dc:creator> </dc:creator>
  <dc:description/>
  <dc:language>en-US</dc:language>
  <cp:lastModifiedBy> </cp:lastModifiedBy>
  <dcterms:modified xsi:type="dcterms:W3CDTF">2010-12-20T15:11:20Z</dcterms:modified>
  <cp:revision>4</cp:revision>
  <dc:subject/>
  <dc:title>Russian culture</dc:title>
</cp:coreProperties>
</file>